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88476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867888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47030-40E5-4255-B7AC-FDA5FCA28A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D5344-0CD6-49BF-880F-946FD76CA3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6E4F9-A516-439D-9B93-497EBA8DB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1298F-A405-4298-A0CB-EE44E77D5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50FF0-3A31-4CDA-A0CA-37A20E0E7E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E1A44-E1E6-4B80-AA3B-956FA0916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4C8D1-FF77-4F33-8444-E79730892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E627E-C682-418C-87F5-B31CE7B5C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5ECEC-C283-423D-9407-6511C3D480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634C0-A12D-4F49-9637-5B237F9128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8ACA6-7940-490F-8BD7-FA4C0CE19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05411-6DB3-4CE9-BB72-DB64062CB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36FC9-6330-4444-8212-D91ECC997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A690F-6513-4706-88CD-721B4F64C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0EBE8-79D8-487E-9C66-2C5F483D8E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158FF-620E-4FC4-AA90-96C046BD9E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6925D-4DE0-422C-B4D5-17E1FC0BE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A8A0F-0F46-4C86-B73C-E1DE425FF0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68329-843B-46F2-BEF2-5CCB8E52FF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3EFBD-5F48-47EB-96D4-1DDFB2A7C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EAFBA-159B-48FA-B169-AD4E5F734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DB7B9-4CFE-4D92-B827-6BF65E1D7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21FAD-A42C-4D24-A510-ABD827C74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7A399-49C1-4E47-B5AE-DACA465DFD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436A0-77B3-4CC2-BC3B-89FD5BCAEA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72E31-2DB6-48E7-BEE0-FB4A5951E0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8C5E9-4FE2-44D1-8A69-3A1C1FCC8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4AC64-1535-4E25-AAAB-4346027B6A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EEA84-6B41-4610-BAE4-1173F0F9D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99E1-F519-4328-904F-BBE3A41D2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0095-3417-4C4C-A6BD-02EF289F4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C3F0-4953-41E0-8715-F73C10E13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9481-599A-4B03-B963-E6DCA696E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FE75-3720-4E68-808F-51B0DC3F28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8AC5-2DC3-4667-8350-5071FD690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5E4F-A7D6-44FC-989C-BCFCBEEE8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6006-4B35-4A18-AD43-B2F2E80D5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84360" y="250920"/>
            <a:ext cx="619128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A713-1104-42A4-9E6B-3BFDC6463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06F9-0453-4E54-8CE5-7E016FC17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EE20-2E4E-44E6-9E77-FBE49ED6C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FE77-844D-4131-98DA-2FF5CD243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024F64-E480-4458-A156-7B4698A868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1357200" y="714240"/>
            <a:ext cx="808200" cy="571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rcRect l="0" t="0" r="68866" b="0"/>
          <a:stretch/>
        </p:blipFill>
        <p:spPr>
          <a:xfrm>
            <a:off x="142920" y="189000"/>
            <a:ext cx="136836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Object 8"/>
          <p:cNvGraphicFramePr/>
          <p:nvPr/>
        </p:nvGraphicFramePr>
        <p:xfrm>
          <a:off x="285840" y="638280"/>
          <a:ext cx="714240" cy="71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840" y="638280"/>
                    <a:ext cx="714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Picture 9" descr=""/>
          <p:cNvPicPr/>
          <p:nvPr/>
        </p:nvPicPr>
        <p:blipFill>
          <a:blip r:embed="rId6"/>
          <a:stretch/>
        </p:blipFill>
        <p:spPr>
          <a:xfrm>
            <a:off x="1428840" y="88920"/>
            <a:ext cx="89064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109C0-36A9-4D93-8228-E7423B53FA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87240" y="1916280"/>
            <a:ext cx="7772400" cy="19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velopment of tools for the analysis and visualisation of second generation sequencing data for </a:t>
            </a:r>
            <a:r>
              <a:rPr b="1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122560" y="4456080"/>
            <a:ext cx="49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 Du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y of Queensland,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Duran@uq.edu.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0085D-2196-442A-903A-5B13610C3E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-based tool for short read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hort reads stored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uploads query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flora.acpfg.com.au/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sualising read pairs for comparative gen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357120" y="4714920"/>
            <a:ext cx="8501040" cy="28584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Straight Arrow Connector 29"/>
          <p:cNvCxnSpPr/>
          <p:nvPr/>
        </p:nvCxnSpPr>
        <p:spPr>
          <a:xfrm>
            <a:off x="571320" y="335772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33"/>
          <p:cNvCxnSpPr/>
          <p:nvPr/>
        </p:nvCxnSpPr>
        <p:spPr>
          <a:xfrm>
            <a:off x="2571840" y="33577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19" name="Straight Connector 39"/>
          <p:cNvSpPr/>
          <p:nvPr/>
        </p:nvSpPr>
        <p:spPr>
          <a:xfrm>
            <a:off x="857160" y="3357720"/>
            <a:ext cx="17146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643040" y="31431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144880" y="302436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traight Connector 43"/>
          <p:cNvSpPr/>
          <p:nvPr/>
        </p:nvSpPr>
        <p:spPr>
          <a:xfrm flipH="1">
            <a:off x="1712520" y="3430440"/>
            <a:ext cx="1800" cy="1285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44"/>
          <p:cNvSpPr/>
          <p:nvPr/>
        </p:nvSpPr>
        <p:spPr>
          <a:xfrm>
            <a:off x="1787760" y="392904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Straight Arrow Connector 45"/>
          <p:cNvCxnSpPr/>
          <p:nvPr/>
        </p:nvCxnSpPr>
        <p:spPr>
          <a:xfrm>
            <a:off x="428616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Straight Arrow Connector 46"/>
          <p:cNvCxnSpPr/>
          <p:nvPr/>
        </p:nvCxnSpPr>
        <p:spPr>
          <a:xfrm>
            <a:off x="692928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26" name="Straight Connector 47"/>
          <p:cNvSpPr/>
          <p:nvPr/>
        </p:nvSpPr>
        <p:spPr>
          <a:xfrm>
            <a:off x="4572000" y="2712960"/>
            <a:ext cx="235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5716440" y="25002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6218640" y="2381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50"/>
          <p:cNvSpPr/>
          <p:nvPr/>
        </p:nvSpPr>
        <p:spPr>
          <a:xfrm>
            <a:off x="5786280" y="2786040"/>
            <a:ext cx="0" cy="1930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5861520" y="3524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14204-7327-4D7C-ACB5-B9E7198CF4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rcRect l="0" t="28129" r="2111" b="9997"/>
          <a:stretch/>
        </p:blipFill>
        <p:spPr>
          <a:xfrm>
            <a:off x="0" y="2286000"/>
            <a:ext cx="875016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rcRect l="3410" t="21878" r="2274" b="10625"/>
          <a:stretch/>
        </p:blipFill>
        <p:spPr>
          <a:xfrm>
            <a:off x="0" y="0"/>
            <a:ext cx="8966160" cy="265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rcRect l="6821" t="22814" r="0" b="11565"/>
          <a:stretch/>
        </p:blipFill>
        <p:spPr>
          <a:xfrm>
            <a:off x="0" y="4565520"/>
            <a:ext cx="8858160" cy="2221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9000" y="1738440"/>
            <a:ext cx="15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Chiif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9000" y="3643200"/>
            <a:ext cx="13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olerac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200" y="5952960"/>
            <a:ext cx="96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nig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CB0A0-5093-4CBC-8448-27E7284EB1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85760" y="1773360"/>
            <a:ext cx="8467560" cy="1559160"/>
            <a:chOff x="185760" y="1773360"/>
            <a:chExt cx="8467560" cy="1559160"/>
          </a:xfrm>
        </p:grpSpPr>
        <p:pic>
          <p:nvPicPr>
            <p:cNvPr id="142" name="Picture 4" descr=""/>
            <p:cNvPicPr/>
            <p:nvPr/>
          </p:nvPicPr>
          <p:blipFill>
            <a:blip r:embed="rId1">
              <a:lum contrast="20000"/>
            </a:blip>
            <a:srcRect l="6457" t="12926" r="37767" b="17386"/>
            <a:stretch/>
          </p:blipFill>
          <p:spPr>
            <a:xfrm>
              <a:off x="714240" y="1924200"/>
              <a:ext cx="7629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Line 5"/>
            <p:cNvSpPr/>
            <p:nvPr/>
          </p:nvSpPr>
          <p:spPr>
            <a:xfrm>
              <a:off x="8348760" y="1973160"/>
              <a:ext cx="1440" cy="974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92400" y="2478240"/>
              <a:ext cx="3909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333000" y="218268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329760" y="187632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1076400" y="291456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1594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291816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48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55976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7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6931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8016840" y="2914560"/>
              <a:ext cx="636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7,00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4224600" y="3111480"/>
              <a:ext cx="106164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Base pair (b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 rot="16200000">
              <a:off x="-420840" y="2380320"/>
              <a:ext cx="143496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No. of aligned rea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552600" y="278460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468360" y="5734080"/>
            <a:ext cx="824544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igh-covered regions of short reads and their corresponding annotation in a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 BA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20"/>
          <p:cNvGrpSpPr/>
          <p:nvPr/>
        </p:nvGrpSpPr>
        <p:grpSpPr>
          <a:xfrm>
            <a:off x="540720" y="3499200"/>
            <a:ext cx="7817400" cy="1117440"/>
            <a:chOff x="540720" y="3499200"/>
            <a:chExt cx="7817400" cy="1117440"/>
          </a:xfrm>
        </p:grpSpPr>
        <p:sp>
          <p:nvSpPr>
            <p:cNvPr id="159" name="Rectangle 21"/>
            <p:cNvSpPr/>
            <p:nvPr/>
          </p:nvSpPr>
          <p:spPr>
            <a:xfrm>
              <a:off x="2440080" y="3499200"/>
              <a:ext cx="9046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TIR-NBS-LR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1231920" y="3960720"/>
              <a:ext cx="7126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18511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24"/>
            <p:cNvSpPr/>
            <p:nvPr/>
          </p:nvSpPr>
          <p:spPr>
            <a:xfrm>
              <a:off x="19177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25"/>
            <p:cNvSpPr/>
            <p:nvPr/>
          </p:nvSpPr>
          <p:spPr>
            <a:xfrm>
              <a:off x="1748520" y="3628800"/>
              <a:ext cx="32076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1816200" y="3625920"/>
              <a:ext cx="183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7"/>
            <p:cNvSpPr/>
            <p:nvPr/>
          </p:nvSpPr>
          <p:spPr>
            <a:xfrm>
              <a:off x="2352600" y="3825720"/>
              <a:ext cx="36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8"/>
            <p:cNvSpPr/>
            <p:nvPr/>
          </p:nvSpPr>
          <p:spPr>
            <a:xfrm>
              <a:off x="2249640" y="362664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>
              <a:off x="1994040" y="389268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0"/>
            <p:cNvSpPr/>
            <p:nvPr/>
          </p:nvSpPr>
          <p:spPr>
            <a:xfrm rot="10800000">
              <a:off x="2778120" y="3689280"/>
              <a:ext cx="7128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31"/>
            <p:cNvSpPr/>
            <p:nvPr/>
          </p:nvSpPr>
          <p:spPr>
            <a:xfrm>
              <a:off x="3341520" y="3824280"/>
              <a:ext cx="493920" cy="287280"/>
            </a:xfrm>
            <a:prstGeom prst="flowChartPredefinedProcess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32"/>
            <p:cNvSpPr/>
            <p:nvPr/>
          </p:nvSpPr>
          <p:spPr>
            <a:xfrm>
              <a:off x="4592520" y="3827520"/>
              <a:ext cx="493920" cy="287280"/>
            </a:xfrm>
            <a:prstGeom prst="flowChartPredefinedProcess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33"/>
            <p:cNvSpPr/>
            <p:nvPr/>
          </p:nvSpPr>
          <p:spPr>
            <a:xfrm rot="16200000">
              <a:off x="4564800" y="392508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34"/>
            <p:cNvSpPr/>
            <p:nvPr/>
          </p:nvSpPr>
          <p:spPr>
            <a:xfrm rot="5400000">
              <a:off x="4839480" y="391716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>
              <a:off x="5234040" y="389412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36"/>
            <p:cNvSpPr/>
            <p:nvPr/>
          </p:nvSpPr>
          <p:spPr>
            <a:xfrm>
              <a:off x="7632720" y="3817800"/>
              <a:ext cx="144360" cy="287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37"/>
            <p:cNvSpPr/>
            <p:nvPr/>
          </p:nvSpPr>
          <p:spPr>
            <a:xfrm rot="5400000">
              <a:off x="7583040" y="3879720"/>
              <a:ext cx="287280" cy="14436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8"/>
            <p:cNvSpPr/>
            <p:nvPr/>
          </p:nvSpPr>
          <p:spPr>
            <a:xfrm>
              <a:off x="3316680" y="4124520"/>
              <a:ext cx="5036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MuD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39"/>
            <p:cNvSpPr/>
            <p:nvPr/>
          </p:nvSpPr>
          <p:spPr>
            <a:xfrm>
              <a:off x="4595040" y="4131000"/>
              <a:ext cx="468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0"/>
            <p:cNvSpPr/>
            <p:nvPr/>
          </p:nvSpPr>
          <p:spPr>
            <a:xfrm>
              <a:off x="7222320" y="4188240"/>
              <a:ext cx="960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 </a:t>
              </a: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solo LT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9" name="AutoShape 41"/>
            <p:cNvCxnSpPr>
              <a:stCxn id="174" idx="2"/>
              <a:endCxn id="178" idx="0"/>
            </p:cNvCxnSpPr>
            <p:nvPr/>
          </p:nvCxnSpPr>
          <p:spPr>
            <a:xfrm flipH="1">
              <a:off x="7701840" y="4105440"/>
              <a:ext cx="3960" cy="7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Rectangle 42"/>
            <p:cNvSpPr/>
            <p:nvPr/>
          </p:nvSpPr>
          <p:spPr>
            <a:xfrm>
              <a:off x="1783440" y="4264920"/>
              <a:ext cx="4762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(AT)</a:t>
              </a:r>
              <a:r>
                <a:rPr b="0" lang="en-AU" sz="900" spc="-1" strike="noStrike" baseline="-25000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1" name="AutoShape 43"/>
            <p:cNvCxnSpPr>
              <a:stCxn id="167" idx="2"/>
              <a:endCxn id="180" idx="0"/>
            </p:cNvCxnSpPr>
            <p:nvPr/>
          </p:nvCxnSpPr>
          <p:spPr>
            <a:xfrm>
              <a:off x="2013120" y="4037040"/>
              <a:ext cx="864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2" name="Rectangle 44"/>
            <p:cNvSpPr/>
            <p:nvPr/>
          </p:nvSpPr>
          <p:spPr>
            <a:xfrm>
              <a:off x="4960080" y="4243320"/>
              <a:ext cx="5893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C/T-rich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reg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3" name="AutoShape 45"/>
            <p:cNvCxnSpPr>
              <a:stCxn id="173" idx="2"/>
              <a:endCxn id="182" idx="0"/>
            </p:cNvCxnSpPr>
            <p:nvPr/>
          </p:nvCxnSpPr>
          <p:spPr>
            <a:xfrm>
              <a:off x="5252760" y="4038480"/>
              <a:ext cx="396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4" name="Text Box 46"/>
            <p:cNvSpPr/>
            <p:nvPr/>
          </p:nvSpPr>
          <p:spPr>
            <a:xfrm>
              <a:off x="540720" y="3809880"/>
              <a:ext cx="651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Repeat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47"/>
          <p:cNvGrpSpPr/>
          <p:nvPr/>
        </p:nvGrpSpPr>
        <p:grpSpPr>
          <a:xfrm>
            <a:off x="540360" y="4668840"/>
            <a:ext cx="7943760" cy="752400"/>
            <a:chOff x="540360" y="4668840"/>
            <a:chExt cx="7943760" cy="752400"/>
          </a:xfrm>
        </p:grpSpPr>
        <p:sp>
          <p:nvSpPr>
            <p:cNvPr id="186" name="Line 48"/>
            <p:cNvSpPr/>
            <p:nvPr/>
          </p:nvSpPr>
          <p:spPr>
            <a:xfrm>
              <a:off x="1209600" y="4940280"/>
              <a:ext cx="7126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49"/>
            <p:cNvSpPr/>
            <p:nvPr/>
          </p:nvSpPr>
          <p:spPr>
            <a:xfrm>
              <a:off x="1244520" y="4807080"/>
              <a:ext cx="158760" cy="287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50"/>
            <p:cNvSpPr/>
            <p:nvPr/>
          </p:nvSpPr>
          <p:spPr>
            <a:xfrm rot="10800000">
              <a:off x="1455480" y="4816440"/>
              <a:ext cx="331560" cy="287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51"/>
            <p:cNvSpPr/>
            <p:nvPr/>
          </p:nvSpPr>
          <p:spPr>
            <a:xfrm rot="10800000">
              <a:off x="2073240" y="4816440"/>
              <a:ext cx="216000" cy="2872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52"/>
            <p:cNvSpPr/>
            <p:nvPr/>
          </p:nvSpPr>
          <p:spPr>
            <a:xfrm>
              <a:off x="2408400" y="4800600"/>
              <a:ext cx="287280" cy="2872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rot="10800000">
              <a:off x="2719080" y="4819680"/>
              <a:ext cx="323640" cy="287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>
              <a:off x="3063960" y="4803840"/>
              <a:ext cx="36360" cy="2872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55"/>
            <p:cNvSpPr/>
            <p:nvPr/>
          </p:nvSpPr>
          <p:spPr>
            <a:xfrm rot="10800000">
              <a:off x="3112560" y="4819680"/>
              <a:ext cx="173160" cy="287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56"/>
            <p:cNvSpPr/>
            <p:nvPr/>
          </p:nvSpPr>
          <p:spPr>
            <a:xfrm rot="10800000">
              <a:off x="3914640" y="4819680"/>
              <a:ext cx="68400" cy="287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57"/>
            <p:cNvSpPr/>
            <p:nvPr/>
          </p:nvSpPr>
          <p:spPr>
            <a:xfrm rot="10800000">
              <a:off x="4067280" y="4819680"/>
              <a:ext cx="280800" cy="2872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58"/>
            <p:cNvSpPr/>
            <p:nvPr/>
          </p:nvSpPr>
          <p:spPr>
            <a:xfrm rot="10800000">
              <a:off x="4430880" y="4819680"/>
              <a:ext cx="85680" cy="2872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59"/>
            <p:cNvSpPr/>
            <p:nvPr/>
          </p:nvSpPr>
          <p:spPr>
            <a:xfrm>
              <a:off x="5272200" y="4799160"/>
              <a:ext cx="223560" cy="2872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60"/>
            <p:cNvSpPr/>
            <p:nvPr/>
          </p:nvSpPr>
          <p:spPr>
            <a:xfrm rot="10800000">
              <a:off x="5527800" y="4816440"/>
              <a:ext cx="295200" cy="287280"/>
            </a:xfrm>
            <a:custGeom>
              <a:avLst/>
              <a:gdLst>
                <a:gd name="textAreaLeft" fmla="*/ 0 w 295200"/>
                <a:gd name="textAreaRight" fmla="*/ 295200 w 2952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61"/>
            <p:cNvSpPr/>
            <p:nvPr/>
          </p:nvSpPr>
          <p:spPr>
            <a:xfrm rot="10800000">
              <a:off x="5872320" y="4816440"/>
              <a:ext cx="1690560" cy="28728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AutoShape 62"/>
            <p:cNvSpPr/>
            <p:nvPr/>
          </p:nvSpPr>
          <p:spPr>
            <a:xfrm>
              <a:off x="8032680" y="4800600"/>
              <a:ext cx="258840" cy="2872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63"/>
            <p:cNvSpPr/>
            <p:nvPr/>
          </p:nvSpPr>
          <p:spPr>
            <a:xfrm rot="10800000">
              <a:off x="2755440" y="4668840"/>
              <a:ext cx="7164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64"/>
            <p:cNvSpPr/>
            <p:nvPr/>
          </p:nvSpPr>
          <p:spPr>
            <a:xfrm>
              <a:off x="6878520" y="5259240"/>
              <a:ext cx="216000" cy="1447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7047720" y="5211720"/>
              <a:ext cx="14364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Predicted genic reg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66"/>
            <p:cNvSpPr/>
            <p:nvPr/>
          </p:nvSpPr>
          <p:spPr>
            <a:xfrm>
              <a:off x="540360" y="4815000"/>
              <a:ext cx="5540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Gen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2D62B-E41D-48A2-8089-FDB837EDF8C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5760" y="1598760"/>
            <a:ext cx="8037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t">
            <a:noAutofit/>
          </a:bodyPr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nding the genes for the tra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gration of genetic data with genomic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1587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pping of QTL regions to genom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734080"/>
            <a:ext cx="6659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Annot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396720" y="3851280"/>
            <a:ext cx="792036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65BB6-CC3A-4A9E-84CD-ACC5FD63AB7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From genetic to physical ma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00040" y="2214720"/>
            <a:ext cx="7286760" cy="142560"/>
          </a:xfrm>
          <a:prstGeom prst="rect">
            <a:avLst/>
          </a:prstGeom>
          <a:solidFill>
            <a:srgbClr val="a6a6a6"/>
          </a:solidFill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ight Arrow 11"/>
          <p:cNvSpPr/>
          <p:nvPr/>
        </p:nvSpPr>
        <p:spPr>
          <a:xfrm>
            <a:off x="642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ight Arrow 12"/>
          <p:cNvSpPr/>
          <p:nvPr/>
        </p:nvSpPr>
        <p:spPr>
          <a:xfrm flipH="1">
            <a:off x="999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ight Arrow 13"/>
          <p:cNvSpPr/>
          <p:nvPr/>
        </p:nvSpPr>
        <p:spPr>
          <a:xfrm>
            <a:off x="6429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ight Arrow 14"/>
          <p:cNvSpPr/>
          <p:nvPr/>
        </p:nvSpPr>
        <p:spPr>
          <a:xfrm flipH="1">
            <a:off x="3285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8571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7" descr="matches.png"/>
          <p:cNvPicPr/>
          <p:nvPr/>
        </p:nvPicPr>
        <p:blipFill>
          <a:blip r:embed="rId1"/>
          <a:stretch/>
        </p:blipFill>
        <p:spPr>
          <a:xfrm>
            <a:off x="928800" y="2957400"/>
            <a:ext cx="7358040" cy="2971800"/>
          </a:xfrm>
          <a:prstGeom prst="rect">
            <a:avLst/>
          </a:prstGeom>
          <a:ln w="0">
            <a:noFill/>
          </a:ln>
        </p:spPr>
      </p:pic>
      <p:sp>
        <p:nvSpPr>
          <p:cNvPr id="219" name="Right Arrow 18"/>
          <p:cNvSpPr/>
          <p:nvPr/>
        </p:nvSpPr>
        <p:spPr>
          <a:xfrm flipH="1">
            <a:off x="14281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ight Arrow 19"/>
          <p:cNvSpPr/>
          <p:nvPr/>
        </p:nvSpPr>
        <p:spPr>
          <a:xfrm>
            <a:off x="1785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ight Arrow 20"/>
          <p:cNvSpPr/>
          <p:nvPr/>
        </p:nvSpPr>
        <p:spPr>
          <a:xfrm flipH="1">
            <a:off x="17852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ight Arrow 21"/>
          <p:cNvSpPr/>
          <p:nvPr/>
        </p:nvSpPr>
        <p:spPr>
          <a:xfrm>
            <a:off x="22147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ight Arrow 23"/>
          <p:cNvSpPr/>
          <p:nvPr/>
        </p:nvSpPr>
        <p:spPr>
          <a:xfrm flipH="1">
            <a:off x="2785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ight Arrow 24"/>
          <p:cNvSpPr/>
          <p:nvPr/>
        </p:nvSpPr>
        <p:spPr>
          <a:xfrm>
            <a:off x="3000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ight Arrow 25"/>
          <p:cNvSpPr/>
          <p:nvPr/>
        </p:nvSpPr>
        <p:spPr>
          <a:xfrm flipH="1">
            <a:off x="585720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ight Arrow 28"/>
          <p:cNvSpPr/>
          <p:nvPr/>
        </p:nvSpPr>
        <p:spPr>
          <a:xfrm>
            <a:off x="38577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ight Arrow 29"/>
          <p:cNvSpPr/>
          <p:nvPr/>
        </p:nvSpPr>
        <p:spPr>
          <a:xfrm flipH="1">
            <a:off x="42141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40719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ight Arrow 31"/>
          <p:cNvSpPr/>
          <p:nvPr/>
        </p:nvSpPr>
        <p:spPr>
          <a:xfrm flipH="1">
            <a:off x="450000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ight Arrow 32"/>
          <p:cNvSpPr/>
          <p:nvPr/>
        </p:nvSpPr>
        <p:spPr>
          <a:xfrm>
            <a:off x="4714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ight Arrow 33"/>
          <p:cNvSpPr/>
          <p:nvPr/>
        </p:nvSpPr>
        <p:spPr>
          <a:xfrm flipH="1">
            <a:off x="5000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ight Arrow 34"/>
          <p:cNvSpPr/>
          <p:nvPr/>
        </p:nvSpPr>
        <p:spPr>
          <a:xfrm>
            <a:off x="507204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ight Arrow 35"/>
          <p:cNvSpPr/>
          <p:nvPr/>
        </p:nvSpPr>
        <p:spPr>
          <a:xfrm flipH="1">
            <a:off x="5429160" y="242892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52862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ight Arrow 37"/>
          <p:cNvSpPr/>
          <p:nvPr/>
        </p:nvSpPr>
        <p:spPr>
          <a:xfrm flipH="1">
            <a:off x="57142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ight Arrow 38"/>
          <p:cNvSpPr/>
          <p:nvPr/>
        </p:nvSpPr>
        <p:spPr>
          <a:xfrm>
            <a:off x="5857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ight Arrow 39"/>
          <p:cNvSpPr/>
          <p:nvPr/>
        </p:nvSpPr>
        <p:spPr>
          <a:xfrm flipH="1">
            <a:off x="6214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607212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ight Arrow 41"/>
          <p:cNvSpPr/>
          <p:nvPr/>
        </p:nvSpPr>
        <p:spPr>
          <a:xfrm flipH="1">
            <a:off x="66430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ight Arrow 42"/>
          <p:cNvSpPr/>
          <p:nvPr/>
        </p:nvSpPr>
        <p:spPr>
          <a:xfrm>
            <a:off x="692928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ight Arrow 43"/>
          <p:cNvSpPr/>
          <p:nvPr/>
        </p:nvSpPr>
        <p:spPr>
          <a:xfrm flipH="1">
            <a:off x="7286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4"/>
          <p:cNvSpPr/>
          <p:nvPr/>
        </p:nvSpPr>
        <p:spPr>
          <a:xfrm>
            <a:off x="71438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ight Arrow 45"/>
          <p:cNvSpPr/>
          <p:nvPr/>
        </p:nvSpPr>
        <p:spPr>
          <a:xfrm flipH="1">
            <a:off x="742896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ight Arrow 46"/>
          <p:cNvSpPr/>
          <p:nvPr/>
        </p:nvSpPr>
        <p:spPr>
          <a:xfrm>
            <a:off x="2357280" y="192888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ight Arrow 47"/>
          <p:cNvSpPr/>
          <p:nvPr/>
        </p:nvSpPr>
        <p:spPr>
          <a:xfrm>
            <a:off x="3714840" y="192888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6"/>
          <p:cNvSpPr/>
          <p:nvPr/>
        </p:nvSpPr>
        <p:spPr>
          <a:xfrm>
            <a:off x="7769160" y="2176560"/>
            <a:ext cx="11876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Arial"/>
              </a:rPr>
              <a:t>B. rapa 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caffo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traight Connector 50"/>
          <p:cNvSpPr/>
          <p:nvPr/>
        </p:nvSpPr>
        <p:spPr>
          <a:xfrm>
            <a:off x="7786800" y="221472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traight Connector 51"/>
          <p:cNvSpPr/>
          <p:nvPr/>
        </p:nvSpPr>
        <p:spPr>
          <a:xfrm>
            <a:off x="7786800" y="235728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785880" y="6000840"/>
            <a:ext cx="764388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Ordered subset of SOAP2 output, with matching primer pairs highligh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traight Connector 59"/>
          <p:cNvSpPr/>
          <p:nvPr/>
        </p:nvSpPr>
        <p:spPr>
          <a:xfrm>
            <a:off x="50004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traight Connector 60"/>
          <p:cNvSpPr/>
          <p:nvPr/>
        </p:nvSpPr>
        <p:spPr>
          <a:xfrm>
            <a:off x="778680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61"/>
          <p:cNvSpPr/>
          <p:nvPr/>
        </p:nvSpPr>
        <p:spPr>
          <a:xfrm>
            <a:off x="14292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14488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62"/>
          <p:cNvSpPr/>
          <p:nvPr/>
        </p:nvSpPr>
        <p:spPr>
          <a:xfrm>
            <a:off x="742968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3546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Content Placeholder 4" descr="CMap3D.PNG"/>
          <p:cNvPicPr/>
          <p:nvPr/>
        </p:nvPicPr>
        <p:blipFill>
          <a:blip r:embed="rId1"/>
          <a:stretch/>
        </p:blipFill>
        <p:spPr>
          <a:xfrm>
            <a:off x="71280" y="1312920"/>
            <a:ext cx="8859960" cy="5759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E2FB5-1F7F-4982-BFDB-7B4C68483F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CB810-E6D3-49BE-B139-885A3AEED5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68400" y="1312920"/>
            <a:ext cx="88614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Brassica C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3 map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18 linkage grou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899 mar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1AEFD-8A3B-4040-B01B-01F2568637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AE1EC-F529-478A-B8D0-83E6171B3C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57200" y="1600200"/>
            <a:ext cx="82296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a lot of useful things you can do with short paired read sequenc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Map3D to link Brassica genetics and geno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 available at: http://flora.acpfg.com.a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or type ACPFG bioinformatics into Goog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7B7C1-7B45-46C5-B4CF-C5C3FF5C44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68360" y="2205000"/>
            <a:ext cx="8461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 and promoter discovery: 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ome sequencing and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genetic and genomic data using CMap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" descr=""/>
          <p:cNvPicPr/>
          <p:nvPr/>
        </p:nvPicPr>
        <p:blipFill>
          <a:blip r:embed="rId1"/>
          <a:srcRect l="0" t="0" r="56358" b="0"/>
          <a:stretch/>
        </p:blipFill>
        <p:spPr>
          <a:xfrm>
            <a:off x="6753240" y="4540320"/>
            <a:ext cx="2449440" cy="1103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"/>
          <a:srcRect l="0" t="0" r="68845" b="0"/>
          <a:stretch/>
        </p:blipFill>
        <p:spPr>
          <a:xfrm>
            <a:off x="34920" y="476280"/>
            <a:ext cx="2521080" cy="7030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959280" y="1440000"/>
            <a:ext cx="25560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ul Berk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ren Bra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ry Cl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inic E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 Pyo H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Imel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mund 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gan McKenz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ri St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David Edw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3"/>
          <a:stretch/>
        </p:blipFill>
        <p:spPr>
          <a:xfrm>
            <a:off x="4179960" y="5859360"/>
            <a:ext cx="2054160" cy="316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4"/>
          <a:stretch/>
        </p:blipFill>
        <p:spPr>
          <a:xfrm>
            <a:off x="250920" y="1500120"/>
            <a:ext cx="1873080" cy="1325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5"/>
          <a:stretch/>
        </p:blipFill>
        <p:spPr>
          <a:xfrm>
            <a:off x="1027080" y="3052800"/>
            <a:ext cx="2033640" cy="12668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6659640" y="5400720"/>
            <a:ext cx="34131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iel Marsh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kki Apple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ng Zh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ran Boskov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9"/>
          <p:cNvGraphicFramePr/>
          <p:nvPr/>
        </p:nvGraphicFramePr>
        <p:xfrm>
          <a:off x="2143080" y="4645080"/>
          <a:ext cx="1428840" cy="14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3080" y="4645080"/>
                    <a:ext cx="142884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10" descr=""/>
          <p:cNvPicPr/>
          <p:nvPr/>
        </p:nvPicPr>
        <p:blipFill>
          <a:blip r:embed="rId8"/>
          <a:stretch/>
        </p:blipFill>
        <p:spPr>
          <a:xfrm>
            <a:off x="6786720" y="3720960"/>
            <a:ext cx="1800000" cy="984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"/>
          <p:cNvPicPr/>
          <p:nvPr/>
        </p:nvPicPr>
        <p:blipFill>
          <a:blip r:embed="rId9"/>
          <a:stretch/>
        </p:blipFill>
        <p:spPr>
          <a:xfrm>
            <a:off x="455760" y="5213520"/>
            <a:ext cx="1125360" cy="946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2"/>
          <p:cNvSpPr/>
          <p:nvPr/>
        </p:nvSpPr>
        <p:spPr>
          <a:xfrm>
            <a:off x="6659640" y="1440000"/>
            <a:ext cx="2484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Jacqueline Bat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iaowu W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sh Ra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Kaye Basf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3" descr=""/>
          <p:cNvPicPr/>
          <p:nvPr/>
        </p:nvPicPr>
        <p:blipFill>
          <a:blip r:embed="rId10"/>
          <a:stretch/>
        </p:blipFill>
        <p:spPr>
          <a:xfrm>
            <a:off x="2081160" y="6323040"/>
            <a:ext cx="1548000" cy="463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11"/>
          <a:stretch/>
        </p:blipFill>
        <p:spPr>
          <a:xfrm>
            <a:off x="4191120" y="6286680"/>
            <a:ext cx="116676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ired-end short re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5943600" y="2154240"/>
            <a:ext cx="114300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044440" y="2163600"/>
            <a:ext cx="1168200" cy="180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3200400" y="2154240"/>
            <a:ext cx="27432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48120" y="2241720"/>
            <a:ext cx="1828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2708280"/>
            <a:ext cx="82296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lumina GAI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length (35bp – 75b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ert size up to 10K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~ Normal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ard deviation ~ 10%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 finding and ext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2498760" y="3157560"/>
            <a:ext cx="411480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 flipH="1">
            <a:off x="1112400" y="2700360"/>
            <a:ext cx="57492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95596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743580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H="1">
            <a:off x="5457960" y="26906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870360" y="3386160"/>
            <a:ext cx="1371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/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H="1">
            <a:off x="3400560" y="29192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5699160" y="29192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H="1">
            <a:off x="885960" y="24620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727360" y="24620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 flipH="1">
            <a:off x="1114200" y="2919240"/>
            <a:ext cx="253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1008000" y="1865160"/>
            <a:ext cx="852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669960" y="223344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127160" y="4062240"/>
            <a:ext cx="204840" cy="6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1355760" y="4748040"/>
            <a:ext cx="6400800" cy="2286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24987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66135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709560" y="3646440"/>
            <a:ext cx="852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3252960" y="5816520"/>
            <a:ext cx="318960" cy="2160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95360" y="5767560"/>
            <a:ext cx="944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23"/>
          <p:cNvSpPr/>
          <p:nvPr/>
        </p:nvSpPr>
        <p:spPr>
          <a:xfrm>
            <a:off x="5724360" y="5821200"/>
            <a:ext cx="319320" cy="2160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4543560" y="5784840"/>
            <a:ext cx="1171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 flipH="1">
            <a:off x="6162840" y="592596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111400" y="6058080"/>
            <a:ext cx="153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rabidops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4444920" y="6046920"/>
            <a:ext cx="1370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rassi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17215" t="19127" r="18281" b="12584"/>
          <a:stretch/>
        </p:blipFill>
        <p:spPr>
          <a:xfrm>
            <a:off x="949320" y="1606680"/>
            <a:ext cx="7389720" cy="4889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87200" y="6526080"/>
            <a:ext cx="874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flora.acpfg.com.au/tagdb/cgi-bin/results?jobID=bK85Lk10fVzMlw5e33FSuYBY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71" descr="primers_a.PNG"/>
          <p:cNvPicPr/>
          <p:nvPr/>
        </p:nvPicPr>
        <p:blipFill>
          <a:blip r:embed="rId1"/>
          <a:stretch/>
        </p:blipFill>
        <p:spPr>
          <a:xfrm>
            <a:off x="285840" y="1911240"/>
            <a:ext cx="857232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5" descr="primers_b.PNG"/>
          <p:cNvPicPr/>
          <p:nvPr/>
        </p:nvPicPr>
        <p:blipFill>
          <a:blip r:embed="rId1"/>
          <a:stretch/>
        </p:blipFill>
        <p:spPr>
          <a:xfrm>
            <a:off x="231840" y="1857240"/>
            <a:ext cx="862632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78342-8DC5-42E0-A56D-6AF1392897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68360" y="184464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rap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olerace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nigr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3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 7D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rle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9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ongami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0.4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Nicotian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9:03:12Z</dcterms:created>
  <dc:creator>Bob</dc:creator>
  <dc:description/>
  <dc:language>en-US</dc:language>
  <cp:lastModifiedBy>GMOD / NESCent</cp:lastModifiedBy>
  <cp:lastPrinted>2009-04-22T19:24:48Z</cp:lastPrinted>
  <dcterms:modified xsi:type="dcterms:W3CDTF">2010-01-21T18:16:17Z</dcterms:modified>
  <cp:revision>178</cp:revision>
  <dc:subject/>
  <dc:title>Main Title</dc:title>
</cp:coreProperties>
</file>